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0BF-E014-4373-BDF5-50331A26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D66-F643-4284-AE65-7B14CB95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EA1-DB75-4EB7-92A7-332AF60A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FC9-6CAB-4811-AB8F-0D7843F7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D6B-D173-41CF-8447-76790DDE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529-5B88-4D7F-A580-4EC1EACD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A63-EDFB-468C-9092-C9E49F8C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797-B8A8-4FF2-8EC0-1328F581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B73-0C58-48EC-A7A4-F7C1C93F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BB1-E286-402B-819F-63725D7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C91-C1F6-4D34-931C-71B3046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599-CC6A-4A9A-BFD4-903F34B9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3891-1C6D-466A-BAE6-7C468CA38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TURGESCHICH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304920" y="40068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fklärung, Rokoko, Empfindsamk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304920" y="37018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616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lass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9053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mant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3117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rm u. Dr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naissance, Re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5226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ederme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530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nges Deutsch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8356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ism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1405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uralism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inzelne Epo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43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Überbli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04920" y="17208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n und Reihenfolge der Epo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04920" y="20574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eitleiste: Epochen und wichtigste Na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77820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ressionism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264200"/>
            <a:ext cx="434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chtung der verlorenen u. verbürgten Wirklichke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(Neue Sachlichke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Literatur im Dritten Reich, Exilliteratur u.a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514840"/>
            <a:ext cx="34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teratur nach 1945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zination durch Abbild, Zerrbil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335268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ismus, Impressionism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63244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: A. Decker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wicklung: stark schematisier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24160" y="914400"/>
            <a:ext cx="6057720" cy="8254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O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600-1720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. Glaube: Lebensfreude u. Van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91040" y="1752480"/>
            <a:ext cx="723960" cy="762120"/>
          </a:xfrm>
          <a:prstGeom prst="upDownArrow">
            <a:avLst>
              <a:gd name="adj1" fmla="val 50000"/>
              <a:gd name="adj2" fmla="val 2095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2590920"/>
            <a:ext cx="6934320" cy="1130400"/>
          </a:xfrm>
          <a:prstGeom prst="rect">
            <a:avLst/>
          </a:prstGeom>
          <a:solidFill>
            <a:srgbClr val="cc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KLÄRU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20-1785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itik an Autorität der Kirche u. des absol. Staate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Vernunft in Politik, Religion, Wissenschaft, Erziehung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37339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664160"/>
            <a:ext cx="7162920" cy="825480"/>
          </a:xfrm>
          <a:prstGeom prst="rect">
            <a:avLst/>
          </a:prstGeom>
          <a:solidFill>
            <a:srgbClr val="99cc00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s ROKOKO (ca. 1750-1780):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klärung (Vernunft) + Empfindsamkeit (Gefü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5410080"/>
            <a:ext cx="533520" cy="685800"/>
          </a:xfrm>
          <a:prstGeom prst="upDownArrow">
            <a:avLst>
              <a:gd name="adj1" fmla="val 50000"/>
              <a:gd name="adj2" fmla="val 2558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5410080"/>
            <a:ext cx="533160" cy="685800"/>
          </a:xfrm>
          <a:prstGeom prst="downArrow">
            <a:avLst>
              <a:gd name="adj1" fmla="val 50000"/>
              <a:gd name="adj2" fmla="val 3215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6095880"/>
            <a:ext cx="6324840" cy="459720"/>
          </a:xfrm>
          <a:prstGeom prst="rect">
            <a:avLst/>
          </a:prstGeom>
          <a:solidFill>
            <a:srgbClr val="ff66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RM UND DRANG (1770-178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1"/>
            <a:endCxn id="128" idx="1"/>
          </p:cNvCxnSpPr>
          <p:nvPr/>
        </p:nvCxnSpPr>
        <p:spPr>
          <a:xfrm flipV="1" rot="10800000">
            <a:off x="1809000" y="1344240"/>
            <a:ext cx="496080" cy="3750480"/>
          </a:xfrm>
          <a:prstGeom prst="bentConnector3">
            <a:avLst>
              <a:gd name="adj1" fmla="val 185548"/>
            </a:avLst>
          </a:prstGeom>
          <a:ln w="1015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228600" y="3962520"/>
            <a:ext cx="1143000" cy="7038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öfisc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ul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1905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ass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066680"/>
            <a:ext cx="5715000" cy="5486400"/>
          </a:xfrm>
          <a:prstGeom prst="ellipse">
            <a:avLst/>
          </a:prstGeom>
          <a:noFill/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54936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Idealisiertes Vorbild: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riech. Anti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33520"/>
            <a:ext cx="2362320" cy="10767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RMO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er Kräf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895480"/>
            <a:ext cx="8763120" cy="459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nnlichkeit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Sitt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3352680"/>
            <a:ext cx="8686800" cy="459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idenschaft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Vernun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3809880"/>
            <a:ext cx="8610480" cy="459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igung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Pfl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267080"/>
            <a:ext cx="8610480" cy="4597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rklichkeit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3048120"/>
            <a:ext cx="4876920" cy="152280"/>
          </a:xfrm>
          <a:prstGeom prst="leftRightArrow">
            <a:avLst>
              <a:gd name="adj1" fmla="val 33333"/>
              <a:gd name="adj2" fmla="val 2919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505320"/>
            <a:ext cx="4876920" cy="152280"/>
          </a:xfrm>
          <a:prstGeom prst="leftRightArrow">
            <a:avLst>
              <a:gd name="adj1" fmla="val 33333"/>
              <a:gd name="adj2" fmla="val 2919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962520"/>
            <a:ext cx="4876920" cy="152280"/>
          </a:xfrm>
          <a:prstGeom prst="leftRightArrow">
            <a:avLst>
              <a:gd name="adj1" fmla="val 33333"/>
              <a:gd name="adj2" fmla="val 2919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419720"/>
            <a:ext cx="4876920" cy="152280"/>
          </a:xfrm>
          <a:prstGeom prst="leftRightArrow">
            <a:avLst>
              <a:gd name="adj1" fmla="val 33333"/>
              <a:gd name="adj2" fmla="val 291941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209680"/>
            <a:ext cx="3276720" cy="39420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tur: großartig  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geordnetes Reich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umanität: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„Edel sei der Mensch,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hilfreich und gut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e Romant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685800"/>
            <a:ext cx="52578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lancholie, Weltschmerz, Sehns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8" idx="1"/>
            <a:endCxn id="150" idx="0"/>
          </p:cNvCxnSpPr>
          <p:nvPr/>
        </p:nvCxnSpPr>
        <p:spPr>
          <a:xfrm flipV="1" rot="10800000">
            <a:off x="1218600" y="933120"/>
            <a:ext cx="743400" cy="10483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endCxn id="152" idx="0"/>
          </p:cNvCxnSpPr>
          <p:nvPr/>
        </p:nvCxnSpPr>
        <p:spPr>
          <a:xfrm rot="5400000">
            <a:off x="2990160" y="1314360"/>
            <a:ext cx="762480" cy="572040"/>
          </a:xfrm>
          <a:prstGeom prst="bentConnector3">
            <a:avLst>
              <a:gd name="adj1" fmla="val 499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endCxn id="154" idx="0"/>
          </p:cNvCxnSpPr>
          <p:nvPr/>
        </p:nvCxnSpPr>
        <p:spPr>
          <a:xfrm flipH="1" rot="16200000">
            <a:off x="4868640" y="1379160"/>
            <a:ext cx="702360" cy="3816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3"/>
            <a:endCxn id="156" idx="0"/>
          </p:cNvCxnSpPr>
          <p:nvPr/>
        </p:nvCxnSpPr>
        <p:spPr>
          <a:xfrm>
            <a:off x="7257960" y="933120"/>
            <a:ext cx="667440" cy="1353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04920" y="1981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gange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9810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m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än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192096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rati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7432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rlie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ür d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ttela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27432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decku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otisch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oni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w. Nat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 Gefü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274320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um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iste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lks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648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ise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9625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9625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9625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4648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aturly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39625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6483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ärchen,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pukgesch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6095880"/>
            <a:ext cx="6019920" cy="4597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alposie“:  Mischung der Gat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4228920" y="1256760"/>
            <a:ext cx="762120" cy="87631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36440 h 8763120"/>
              <a:gd name="textAreaBottom" fmla="*/ 86266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8"/>
                  <a:pt x="10800" y="1076"/>
                </a:cubicBezTo>
                <a:lnTo>
                  <a:pt x="10800" y="9600"/>
                </a:lnTo>
                <a:cubicBezTo>
                  <a:pt x="10800" y="10138"/>
                  <a:pt x="5400" y="10676"/>
                  <a:pt x="0" y="10676"/>
                </a:cubicBezTo>
                <a:cubicBezTo>
                  <a:pt x="5400" y="10676"/>
                  <a:pt x="10800" y="11214"/>
                  <a:pt x="10800" y="11752"/>
                </a:cubicBezTo>
                <a:lnTo>
                  <a:pt x="10800" y="20524"/>
                </a:lnTo>
                <a:cubicBezTo>
                  <a:pt x="10800" y="2106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0"/>
            <a:ext cx="3810240" cy="609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0"/>
            <a:ext cx="2895480" cy="609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nges Deutschland   und    Bied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33440" y="762120"/>
            <a:ext cx="64771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poleon  -  Freiheitskriege  -  Resta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/>
          <p:nvPr/>
        </p:nvCxnSpPr>
        <p:spPr>
          <a:xfrm>
            <a:off x="5562720" y="1295280"/>
            <a:ext cx="915120" cy="610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"/>
          <p:cNvCxnSpPr/>
          <p:nvPr/>
        </p:nvCxnSpPr>
        <p:spPr>
          <a:xfrm flipH="1">
            <a:off x="2209320" y="1295280"/>
            <a:ext cx="991440" cy="610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04920" y="20574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erale Bestreb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2057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gn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65428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inungs- u. Pressefrei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anzipation der 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bau sozialer u. mora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lischer Schra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263844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ückzug ins 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ürgerliche Bescheide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nservative Grundh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981080"/>
            <a:ext cx="4114800" cy="32004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1981080"/>
            <a:ext cx="4191120" cy="32004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38080" y="0"/>
            <a:ext cx="3810240" cy="609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0"/>
            <a:ext cx="2895480" cy="609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0773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  Junges Deutschland   und    Bied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1523880"/>
            <a:ext cx="40384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etismus, Religios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niges Verhältn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zur heimatlichen Na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ale 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se für Vergange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heit u. dt. Geschi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ändliche Abgeschiede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heit des Dich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ssim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447920"/>
            <a:ext cx="4114800" cy="45720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447920"/>
            <a:ext cx="4191120" cy="45720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914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erarische Tendenz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523880"/>
            <a:ext cx="40384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ächerlichmachen 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turschwärmer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tbürger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ick auf Probleme 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Gegen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ßstädte als Zentr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der Bewe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i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00480" y="914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elle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05240" y="1371600"/>
            <a:ext cx="533520" cy="457200"/>
          </a:xfrm>
          <a:prstGeom prst="downArrow">
            <a:avLst>
              <a:gd name="adj1" fmla="val 48806"/>
              <a:gd name="adj2" fmla="val 506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17524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letariat in Großstäd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05240" y="2286000"/>
            <a:ext cx="533520" cy="457200"/>
          </a:xfrm>
          <a:prstGeom prst="downArrow">
            <a:avLst>
              <a:gd name="adj1" fmla="val 48806"/>
              <a:gd name="adj2" fmla="val 506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7644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ziale Prob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05240" y="3124080"/>
            <a:ext cx="533520" cy="762120"/>
          </a:xfrm>
          <a:prstGeom prst="downArrow">
            <a:avLst>
              <a:gd name="adj1" fmla="val 48806"/>
              <a:gd name="adj2" fmla="val 7241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886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gnation und Illusionslos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05240" y="4267080"/>
            <a:ext cx="533520" cy="1067040"/>
          </a:xfrm>
          <a:prstGeom prst="downArrow">
            <a:avLst>
              <a:gd name="adj1" fmla="val 48806"/>
              <a:gd name="adj2" fmla="val 10138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5524560"/>
            <a:ext cx="74678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nwendung zur diesseitigen, sinnlich erfassbaren W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 Reali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762120"/>
            <a:ext cx="74678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nwendung zur diesseitigen, sinnlich erfassbaren W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/>
          <p:nvPr/>
        </p:nvCxnSpPr>
        <p:spPr>
          <a:xfrm flipH="1">
            <a:off x="1218600" y="1371600"/>
            <a:ext cx="2819880" cy="838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33520" y="2430360"/>
            <a:ext cx="2209680" cy="1839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getreu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bildung 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ngged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/>
          <p:nvPr/>
        </p:nvCxnSpPr>
        <p:spPr>
          <a:xfrm>
            <a:off x="4571640" y="1371600"/>
            <a:ext cx="1080" cy="915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3657600" y="2438280"/>
            <a:ext cx="1828800" cy="3027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sch i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nflikt z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we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ziale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m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/>
          <p:nvPr/>
        </p:nvCxnSpPr>
        <p:spPr>
          <a:xfrm>
            <a:off x="5257440" y="1371600"/>
            <a:ext cx="2134440" cy="838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6248520" y="2438280"/>
            <a:ext cx="2209680" cy="1900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lische Vo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ä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ildungs-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urali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no Holz: Die Kunst (TuM 12, S.282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U N S 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A T U 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7845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iel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änderu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 Wirk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174840"/>
            <a:ext cx="2209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men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Großstad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rmu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usbeutu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rauenpro-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blemati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Ehebru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andesunt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schi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182880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1828800"/>
            <a:ext cx="0" cy="487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1801800"/>
            <a:ext cx="2743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ismu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glassung al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Übersinnl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nzentr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 die nackt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te Wirk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44956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sch als Produk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n Rasse, Milie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 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7524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=Reproduktions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ding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2548080"/>
            <a:ext cx="2666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zulänglic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pr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äherung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ie Wirk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446724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h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wendung v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lekt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gangspr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hrhundertwend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essionismus ;  Symboli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447920"/>
            <a:ext cx="8229600" cy="285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nisierung des Alltags: Elektrifizierung, Verkeh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Medien, Medizin, Wissenschafte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städterung – Industrieproletari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strebendes Bürgertum, aber alte Klassenhierarchie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(Adel, Militä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bstherrschaft Kaiser Wilh.II trotz konstitut. Monarch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68800" y="4495680"/>
            <a:ext cx="2604960" cy="563760"/>
          </a:xfrm>
          <a:prstGeom prst="downArrow">
            <a:avLst>
              <a:gd name="adj1" fmla="val 51065"/>
              <a:gd name="adj2" fmla="val 409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51055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ürgertum: Rückzug ins Unpolitis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5562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ne Nervosität“ (Sigmund Fre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2"/>
          </p:cNvCxnSpPr>
          <p:nvPr/>
        </p:nvCxnSpPr>
        <p:spPr>
          <a:xfrm flipH="1">
            <a:off x="2513880" y="6019560"/>
            <a:ext cx="2134440" cy="61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2"/>
          </p:cNvCxnSpPr>
          <p:nvPr/>
        </p:nvCxnSpPr>
        <p:spPr>
          <a:xfrm>
            <a:off x="4648320" y="6019560"/>
            <a:ext cx="2134080" cy="61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/>
          <p:nvPr/>
        </p:nvCxnSpPr>
        <p:spPr>
          <a:xfrm flipH="1">
            <a:off x="2437560" y="-152640"/>
            <a:ext cx="2134440" cy="61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/>
          <p:nvPr/>
        </p:nvCxnSpPr>
        <p:spPr>
          <a:xfrm>
            <a:off x="4571640" y="-152640"/>
            <a:ext cx="2134440" cy="61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22860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unst des Eindrucks“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2286000"/>
            <a:ext cx="4114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lösung 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Gesamtgestalt in di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ielfalt einzelner Eind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ktive Empfind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. Stilmittel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langmalerei, Synästhes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rwiegend Lyrik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leine epische Fo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685800"/>
            <a:ext cx="419112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685800"/>
            <a:ext cx="4038480" cy="533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1600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ine Kunst“ 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Ästhetizis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2438280"/>
            <a:ext cx="38862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te Absage an d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Natural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´art pour l´art“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unst als Selbstzw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e Sprachform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ünstlichkeit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ymbolsprach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v.a. Lyr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essionismus                   Symboli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44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igentlich keine Literaturepochen, sondern Ausdrucksrichtung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2133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klärung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koko, Empfindsam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as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66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rm u. Dr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219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naissance, Re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962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ederme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ges Deutsch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800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181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eraturepochen bis Ende 19. J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ressioni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-312480"/>
            <a:ext cx="4265640" cy="697176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ne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hrheit d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fühl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78200" y="838080"/>
            <a:ext cx="19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ßstadt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mymität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3760" y="3809880"/>
            <a:ext cx="265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ieg u. Cha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iner Welt oh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tt u. 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5560" y="533412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zialismu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mmunismu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zif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6483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ückbesinnung au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einfache Welt 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g. primitiven Völ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era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1040" y="167652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gewohnte B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2840" y="283536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knappu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s Ausdru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8880" y="207324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achtu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r Gramm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eraturepochen im 20. J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ismus, Impression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2743200"/>
            <a:ext cx="7162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chtung der verlorenen u. verbürgten Wirklichkeit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Neue Sachlichkeit, Literatur im Dritten Reich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illiteratur u.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191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eratur nach 1945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zination durch Abbild, Zerrbil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273240"/>
            <a:ext cx="6933960" cy="1831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ock (1600-172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J.Christoph von Grimmelshausen: Der abentheuerliche Simplicissim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Gryphius: Lyrik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52280"/>
            <a:ext cx="914400" cy="66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00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br>
              <a:rPr sz="1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103120"/>
            <a:ext cx="7162920" cy="347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klärung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koko, Empfindsamke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20-1785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ie: R. Descartes (Rationalismus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. Hobbes, J. Locke, D. Hume (Empirismus); Voltaire; I.Ka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eratur: G.E.Less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648320"/>
            <a:ext cx="4190760" cy="1557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rm u. Drang (1767-1785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 junge Goethe: Wer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iller: Kab.u.L., Die Räuber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G.Herd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6035760"/>
            <a:ext cx="72388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assik (1786-1805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1680" y="-36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eitle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52280"/>
            <a:ext cx="83844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0"/>
            <a:ext cx="7772400" cy="134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assik (1786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G. in Italien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805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chillers Tod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J.Winckelmann; I.Ka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ethe: Iphigenie, Faust I, Wilhelm Meis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iller: Maria St., Wallens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838080"/>
            <a:ext cx="7772400" cy="1557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mantik (1798-183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üh-: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ie: J.G. Fichte; Lit.: Aug.W. u. Fr. Schlegel; Novalis; L. Tie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ch-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. Brentano; A.v. Arnim; Gebr. Grim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ät-: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v. Eichendorff; E.T.A. Hoffman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981080"/>
            <a:ext cx="3657600" cy="1831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edermeier (1820-1850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Stifter; E. Mörike; Ferd. Raimund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. Nestroy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2651040"/>
            <a:ext cx="4038840" cy="1374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ges Deutschl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35-50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ie: L.Feuerbach; K. Mar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 Heine; G. Büchner; L. Bö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672000"/>
            <a:ext cx="7315200" cy="21056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etischer Realismus (1850-1890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. Kel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F. Mey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. Stor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. Hebbel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5334120"/>
            <a:ext cx="6019560" cy="12826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ismus (1880-1900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ie: Positivismu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. Hauptman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Holz; Joh. Schl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380880"/>
            <a:ext cx="838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52280"/>
            <a:ext cx="59436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ismus, Impressionismus (1890-1920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. George; R.M. Rilke; H.von Hofmannsth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r. Morgenster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143000"/>
            <a:ext cx="6781680" cy="84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ismus (1910-1925)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. Benn; G. Trakl; A. Döblin; Fr. Kafk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981080"/>
            <a:ext cx="7696440" cy="1450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chtung der verlorenen u. verbürgten Wirklichkeit: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e Sachlichkeit; Dritte-Reich-Lit.; Exilliteratur (1925-5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. Mann; H. Hesse; R. Musil; B. Brecht;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Kästner u.a.</a:t>
            </a:r>
            <a:br>
              <a:rPr sz="8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3124080"/>
            <a:ext cx="7543800" cy="2745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chtung nach 1945: Faszination durch Abbild, Zerrbild ...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. Borchert; P. Celan; A. Andersch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. Frisch; Fr. Dürrenmat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 Böll; I. Bachmann; G. Grass; M. Walser; M.L. Kaschnitz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.M. Enzensberger; H. Kipphardt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r. Wolf ..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 (das) Ba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990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-jähriger Krieg: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nitas-Bewusstsein: Vergänglichkeit alles Ird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275904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benslu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arpe diem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27590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bensang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emento mori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743200"/>
            <a:ext cx="3733920" cy="533520"/>
          </a:xfrm>
          <a:prstGeom prst="leftRightArrow">
            <a:avLst>
              <a:gd name="adj1" fmla="val 32741"/>
              <a:gd name="adj2" fmla="val 5504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67344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tendrang u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helos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36734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seits als einzig Dauerhaf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648320"/>
            <a:ext cx="457200" cy="838080"/>
          </a:xfrm>
          <a:prstGeom prst="downArrow">
            <a:avLst>
              <a:gd name="adj1" fmla="val 19444"/>
              <a:gd name="adj2" fmla="val 202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48640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lmen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öfisch galanter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48640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ärtyrerd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dankenlyri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(bes.Sone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648320"/>
            <a:ext cx="457200" cy="838080"/>
          </a:xfrm>
          <a:prstGeom prst="downArrow">
            <a:avLst>
              <a:gd name="adj1" fmla="val 19444"/>
              <a:gd name="adj2" fmla="val 2026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371240" y="1828800"/>
            <a:ext cx="243828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828800"/>
            <a:ext cx="205740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fklärung  u.  Sturm und Drang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860400"/>
            <a:ext cx="4724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bsolutismu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Kleinstaatere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politisch machtloses Bürger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3"/>
          </p:cNvCxnSpPr>
          <p:nvPr/>
        </p:nvCxnSpPr>
        <p:spPr>
          <a:xfrm>
            <a:off x="6934320" y="1459080"/>
            <a:ext cx="762480" cy="5986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52280" y="2209680"/>
            <a:ext cx="2438640" cy="45972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KLÄ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2209680"/>
            <a:ext cx="3429000" cy="4597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RM UND DR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1"/>
          </p:cNvCxnSpPr>
          <p:nvPr/>
        </p:nvCxnSpPr>
        <p:spPr>
          <a:xfrm flipH="1">
            <a:off x="1218600" y="1459080"/>
            <a:ext cx="991080" cy="6753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44792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meinsamk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326376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ritische Grundhaltu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g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radition und Autoritä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andesschrank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herrschende gesellschaftspolitische Verhältnis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hristlichen Dogmat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5153040"/>
            <a:ext cx="563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ü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oziale Gerechtigkei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enschenrech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oler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14800" y="152280"/>
            <a:ext cx="3276720" cy="7621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52280"/>
            <a:ext cx="2286000" cy="76212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 Aufklärung   u.  Sturm und Dr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143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erschie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736640"/>
            <a:ext cx="4343400" cy="4705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 als vernünftig geordneter, wissenschaftlich ergründbarer Bere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ine Einwirkung Gottes auf Natur und Geschichte (De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sch: zur vernünftigen Einsicht befähig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ismus (Glaube an Vernunft und Fortschrit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agierung des Weltbürgert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chter als Wissenschaf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lare, einfache, nüchterne 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736640"/>
            <a:ext cx="4419720" cy="45594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göttlichung der nur durch das Gefühl erfahrbaren Natur (Panthe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sch: Spielball fremder Mäch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jektivismus und Irrational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agierung einer nationalen   Ei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chter als G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otionale, gefühlsbetonte 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15:11:01Z</dcterms:created>
  <dc:creator>AD 450</dc:creator>
  <dc:description/>
  <dc:language>en-US</dc:language>
  <cp:lastModifiedBy> A. Decker</cp:lastModifiedBy>
  <dcterms:modified xsi:type="dcterms:W3CDTF">2007-04-04T15:17:53Z</dcterms:modified>
  <cp:revision>73</cp:revision>
  <dc:subject/>
  <dc:title>PowerPoint-Präsentation</dc:title>
</cp:coreProperties>
</file>